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6F2-0393-40AB-843A-8BF05B8E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E93-FF2C-4B14-BE07-3F1C8D1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BDB-9937-4063-AA83-F051AB3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5DD-5E10-4CAD-A8D1-FC20DF9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CDA-2E1D-41D7-9185-63A86E3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215-0157-47CC-9252-91B61B0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AF9-1D8E-43D6-B641-0E2DD24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102-76BF-4F5C-9837-658E06A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E90-73BC-40FA-89AA-22407862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792-2F8E-46B0-BFAD-02F06A9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A92-A034-4AF1-9A90-845BA67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A91-A712-43FC-B7D1-9899D20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131F-4653-47DE-B94D-44EDDE36FD0C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76ED-964E-4928-AE9A-59A0D960C130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propagandaprofessordotnet2.files.wordpress.com/2010/11/telephone.gif&amp;imgrefurl=http://propagandaprofessor.net/tag/game-of-telephone/&amp;usg=__sM7V0HQqVtzu0TU2-qE4t23_xsM=&amp;h=797&amp;w=800&amp;sz=12&amp;hl=zh-CN&amp;start=19&amp;zoom=1&amp;tbnid=BJybINvNTOwJnM:&amp;tbnh=142&amp;tbnw=143&amp;ei=WV8EUvq6MsmKiQe9zYCABQ&amp;prev=/search%3Fq%3Dtelephone%26newwindow%3D1%26safe%3Dstrict%26hl%3Dzh-CN%26gbv%3D2%26tbm%3Disch&amp;itbs=1&amp;sa=X&amp;ved=0CE8QrQMwE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2057400" y="1828800"/>
            <a:ext cx="5943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23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Weekend with Grandma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ANd9GcTO_YFhZavA2W03Z7AsIb8IoO0qYGYOH_sP973qUC8IvvsnM_uxnr2dFo7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809880"/>
            <a:ext cx="236232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79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77" name="文本框 33897"/>
          <p:cNvSpPr/>
          <p:nvPr/>
        </p:nvSpPr>
        <p:spPr>
          <a:xfrm>
            <a:off x="990720" y="262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周末你打算做点什么事呢，请你给自己列一个清单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56327"/>
          <p:cNvSpPr/>
          <p:nvPr/>
        </p:nvSpPr>
        <p:spPr>
          <a:xfrm>
            <a:off x="755640" y="2362320"/>
            <a:ext cx="777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onfidence in yourself is the first step on the road to succes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信是走向成功的第一步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图片 5632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633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62120" y="2819520"/>
            <a:ext cx="75438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spend a weekend with your grandfather or grandmother? What do you d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6160"/>
          <p:cNvSpPr/>
          <p:nvPr/>
        </p:nvSpPr>
        <p:spPr>
          <a:xfrm>
            <a:off x="3745440" y="5410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on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6164" descr="u=2128546798,329836346&amp;fm=52&amp;gp=0"/>
          <p:cNvPicPr/>
          <p:nvPr/>
        </p:nvPicPr>
        <p:blipFill>
          <a:blip r:embed="rId1"/>
          <a:stretch/>
        </p:blipFill>
        <p:spPr>
          <a:xfrm>
            <a:off x="2895480" y="1981080"/>
            <a:ext cx="2890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4035"/>
          <p:cNvSpPr/>
          <p:nvPr/>
        </p:nvSpPr>
        <p:spPr>
          <a:xfrm>
            <a:off x="3809880" y="538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roce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4038" descr="u=1626757913,1208729543&amp;fm=23&amp;gp=0"/>
          <p:cNvPicPr/>
          <p:nvPr/>
        </p:nvPicPr>
        <p:blipFill>
          <a:blip r:embed="rId1"/>
          <a:stretch/>
        </p:blipFill>
        <p:spPr>
          <a:xfrm>
            <a:off x="2209680" y="10666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8131" descr="200805160204382813"/>
          <p:cNvPicPr/>
          <p:nvPr/>
        </p:nvPicPr>
        <p:blipFill>
          <a:blip r:embed="rId1"/>
          <a:stretch/>
        </p:blipFill>
        <p:spPr>
          <a:xfrm>
            <a:off x="2209680" y="1066680"/>
            <a:ext cx="4953240" cy="37594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48132"/>
          <p:cNvSpPr/>
          <p:nvPr/>
        </p:nvSpPr>
        <p:spPr>
          <a:xfrm>
            <a:off x="3581280" y="50292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oksto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4346"/>
          <p:cNvSpPr/>
          <p:nvPr/>
        </p:nvSpPr>
        <p:spPr>
          <a:xfrm>
            <a:off x="1066680" y="1600200"/>
            <a:ext cx="739152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far is the bookstore from Hanyu’s grandma’s hous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 does Hanyu’s grandma buy her groceries? Wh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hat are Hanyu and her grandparents going to have for dinner tomorr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14340"/>
          <p:cNvSpPr/>
          <p:nvPr/>
        </p:nvSpPr>
        <p:spPr>
          <a:xfrm>
            <a:off x="1447920" y="3457440"/>
            <a:ext cx="701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e buys them at the morning market. Because the vegetables are fresh and not too expensiv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14341"/>
          <p:cNvSpPr/>
          <p:nvPr/>
        </p:nvSpPr>
        <p:spPr>
          <a:xfrm>
            <a:off x="1447920" y="2209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’s just two bus stops aw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14347"/>
          <p:cNvSpPr/>
          <p:nvPr/>
        </p:nvSpPr>
        <p:spPr>
          <a:xfrm>
            <a:off x="1447920" y="5181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going to have dumpling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5361"/>
          <p:cNvSpPr/>
          <p:nvPr/>
        </p:nvSpPr>
        <p:spPr>
          <a:xfrm>
            <a:off x="83808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is talking to her grandma on the phon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正和奶奶在电话上交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15362"/>
          <p:cNvSpPr/>
          <p:nvPr/>
        </p:nvSpPr>
        <p:spPr>
          <a:xfrm>
            <a:off x="1143000" y="25909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k to/with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和某人交谈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the phon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电话上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on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前介词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类似的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en to music on the radi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收音机上听音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on the pap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纸上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" name="图片 15370" descr="3"/>
          <p:cNvPicPr/>
          <p:nvPr/>
        </p:nvPicPr>
        <p:blipFill>
          <a:blip r:embed="rId1"/>
          <a:stretch/>
        </p:blipFill>
        <p:spPr>
          <a:xfrm>
            <a:off x="7391520" y="7621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can read you one this weeken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本周末我可以给你读一个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6386"/>
          <p:cNvSpPr/>
          <p:nvPr/>
        </p:nvSpPr>
        <p:spPr>
          <a:xfrm>
            <a:off x="1219320" y="1905120"/>
            <a:ext cx="746748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b.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读某物，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类似用法的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sb. sth.=write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写东西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ive sb. sth.=give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某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often write my father lette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常给爸爸写信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37893"/>
          <p:cNvSpPr/>
          <p:nvPr/>
        </p:nvSpPr>
        <p:spPr>
          <a:xfrm>
            <a:off x="609480" y="14479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年你过得好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e you ________ _____ this yea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需要从超市买东西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I need ____ ______ ________ from the supermarke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晚饭我们打算吃饺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’re _____ ______ have dumplings _____ dinn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37894"/>
          <p:cNvSpPr/>
          <p:nvPr/>
        </p:nvSpPr>
        <p:spPr>
          <a:xfrm>
            <a:off x="2133720" y="266688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37899"/>
          <p:cNvSpPr/>
          <p:nvPr/>
        </p:nvSpPr>
        <p:spPr>
          <a:xfrm>
            <a:off x="2533680" y="37339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37900"/>
          <p:cNvSpPr/>
          <p:nvPr/>
        </p:nvSpPr>
        <p:spPr>
          <a:xfrm>
            <a:off x="1905120" y="480060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37901"/>
          <p:cNvSpPr/>
          <p:nvPr/>
        </p:nvSpPr>
        <p:spPr>
          <a:xfrm>
            <a:off x="3124080" y="48006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矩形 37907"/>
          <p:cNvSpPr/>
          <p:nvPr/>
        </p:nvSpPr>
        <p:spPr>
          <a:xfrm>
            <a:off x="3276720" y="37339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矩形 37908"/>
          <p:cNvSpPr/>
          <p:nvPr/>
        </p:nvSpPr>
        <p:spPr>
          <a:xfrm>
            <a:off x="35053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矩形 37909"/>
          <p:cNvSpPr/>
          <p:nvPr/>
        </p:nvSpPr>
        <p:spPr>
          <a:xfrm>
            <a:off x="4038480" y="3733920"/>
            <a:ext cx="21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12"/>
          <p:cNvSpPr/>
          <p:nvPr/>
        </p:nvSpPr>
        <p:spPr>
          <a:xfrm>
            <a:off x="6005520" y="48769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43:52Z</dcterms:created>
  <dc:creator/>
  <dc:description/>
  <dc:language>en-US</dc:language>
  <cp:lastModifiedBy>Administrator</cp:lastModifiedBy>
  <dcterms:modified xsi:type="dcterms:W3CDTF">2019-01-02T00:45:58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